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CF05-B6C8-416A-88AA-8EA8908BD50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DD58-6DD9-49CE-AEFC-51EC21EF91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02436-6BB2-4FB8-8C15-4D326E3445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DD5B-1D37-4230-8206-41691B4CD0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A48D-C39C-43D9-AD1C-61AB5FD757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C873-12ED-476B-90DE-3C73EC4344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D094-BC10-4F01-B2AB-4AD246862E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7E59-94D7-438B-9916-06F23A22BD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C5AC-A383-4F25-9666-94BA3AFDA8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B318-57BB-4104-8AF9-F55034410C9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FED6-0404-443C-A1E6-1D77D4C695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BDF2-F265-4F8A-9B0D-4CD1589349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5325-B06B-46AD-A5C2-A959E8E48C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2BB1-C852-44BB-A1DB-869884FFBA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AD98-51F8-4ED6-B801-886174EB4F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4B18-0D2E-4043-924E-91E8DE21BE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86C92-5F6A-427B-ADDC-0048AFC19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0EDD7-F86A-458A-846C-4787D291B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6A056-7D17-464E-BAC5-F421BBC01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1BD62-DC9E-4B7A-AAD9-C9CE63D29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D26B8-F3F2-4D67-9DDC-011BEAD45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E5A38-58D0-4C1D-A559-B9F2F6AA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68F53-B500-436C-974B-9F62B2D2A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A72D9-A089-43B7-88B9-A18F8198D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47304-5857-43B9-9A33-782C533F7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652CC-1C9E-419A-8491-8382CDEBC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54F11-EE04-436C-9A66-C91491EEA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71F6-7DFA-4389-A147-6E930D9E8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DA3C9-329D-49FB-88A5-EF4666B9A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2A554-5FA2-441F-98A8-823AF2186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24A2E-2006-4FE4-98B7-22218FC7C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D7547-E642-42EB-8722-61879C6EC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6497C-823A-4067-A9B9-B8C6080DD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76E01-1623-4A8E-AF8D-528BC7330B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F3C50-5933-4CDA-8D95-8F672B0DF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488A2-6E7F-40C4-82B5-AA14CC6BE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CC79B-82BB-40C6-A995-020DAF63E5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8F3224-3CB0-4FF2-9771-76C0C38E2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59459-BE74-4D18-97DE-5F0C8EE65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109D8-91CC-4FA8-94AB-8DA134797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C3A58-0908-4232-A342-57132D147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1D851-B919-47EA-A012-20F5875D8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7BE48-7218-4D95-B947-45D638A18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C3001A-DF0C-4EF3-9BA0-D308B5DB7D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B9D254-AF2F-4928-9A82-B83236538D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DCA1C9-79D8-4329-B513-900E0D2DC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845EBD-E931-4255-A554-6343ADD8D8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67CB6-7E21-4D9B-A9C9-8402A78B8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646395-A501-4DCB-834A-C314918390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080BC-269B-4699-BD35-7D8E79F8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6A74F-A6DE-4787-92CC-BF1600F8D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42DCD-D305-443D-B310-8E41FEA7D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AB2DF-B9E3-49F2-929A-1D4B48E52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BCB82-77CF-4E0E-A101-E6B98FB43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A91A3-8A27-4183-AEB2-D101AEC67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B00D2-D041-4992-A610-E55E15D0A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43FE4-6AE7-4D4A-8D0E-2C43A6441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D35261-3577-4B5B-84ED-C3009A5386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18DCF3-8730-41ED-BA8B-12256A2FE2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7DC99-A6E8-4EE4-95EB-076E14DFB3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C55DD-A2EA-4DBE-9682-877A3B9AA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4199E6-D74B-44E7-A156-3193DD401C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C882F-EB69-4F01-BCBA-3ACA4C64C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E485B-12AB-4F19-AB11-501C3C9D41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0CA00-BE1B-4D34-9F15-5B47243F2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8E6D0-0E56-4CD1-94FD-4D2E36D74E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2428C-AC96-4D10-AA33-F9C6BF0FC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1C36E-29FB-4416-902B-ED9D5ADD3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DD6B4-B9F8-4AEB-9729-606CA62AC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1A1D6-192A-4282-B263-9198B1AFE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C30AEC-C0F4-4FCE-B596-99101140C1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7D5E8-E241-4319-8630-84A3FA801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60BDB7-09D4-4C5A-9AAE-17589A3BD4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23C8A7-233C-471E-98E5-FD65F99BC2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880EA0-F162-492E-A90B-FEAAC14EF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EF455-C8E5-401A-AC25-9C32088C3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8BE19E-AFF6-4561-A530-6234576253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89A30-8742-4691-A650-4461BE6D3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2F197-67BB-4B78-8C53-0C7845AD0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067E7-65CF-40D7-B745-23FAD9561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C7F635-11D1-4FA7-992B-1804F701C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CFCD3-7699-41E8-B44E-F484C28A23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F619-D78D-4507-9526-681A7A519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4205BF-97B2-4617-A499-CF2671C49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924102-C364-4180-933F-28061BC1F1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D8E89B-CBA5-481E-ADCB-448E9F65D4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AC59D6-D2C7-4085-874B-6A2513452D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FCCFE-526C-48F8-94D0-850C8E657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29D9EB-9E6E-4F39-83C1-634E0EA2E2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4FBE0-6B3E-4906-B40C-7ECE0F173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A0BFC7-43AC-4E09-9AF1-B3AA3CB26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2BB5EF-980F-4B1A-9AB8-5BBF28254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7E244-5FFE-420E-815A-E0253AFC3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8EA0-C002-47F4-BC66-D7F02BDB7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4B6702-FAB3-4740-BADA-24188C633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0435F0-D0DA-4B4E-97E5-8E5B2D17E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FE97C8-DB84-43B2-BFB8-85B5643779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86E35F-C3AB-499C-88D9-A0808D3415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C4551A-06AE-4C36-AB5A-EAF4CF6BCA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0F1B-AD51-4742-A4C2-50029CF2A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9170-55B7-4B59-9530-81A35B7F0A8D}"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BA65-1B26-476B-908E-6328406E9A9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4290-094D-4A8F-BD9B-864D0ECD004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3E82-3623-4538-B63C-F8313AF1610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CADB-3872-48AE-BF27-A157F0C263B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E3C5-4A82-40F0-B95F-0C113E360B1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63C6-D956-4E66-B969-F19EF7D13FB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8"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3-30T19:41:41Z</dcterms:modified>
  <cp:revision>23</cp:revision>
  <dc:subject/>
  <dc:title>UML Use Cases</dc:title>
</cp:coreProperties>
</file>